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33FC-98B9-4FB5-92CD-E26DC6C3C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D303-8CD0-4348-B8B1-E5E346353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AE75-9C1A-4308-BCF0-F6B58C61D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18BE-7920-4603-B342-0C09568F7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7765-5E41-42AD-A56D-8BBE1EDFA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045A-A80A-4757-9F13-48F6BD1E5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3E81-87E7-4DD0-A9D4-B4196F9AF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3D49-DF83-4BEF-B707-56CEF6EC1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8C8F-61C1-4650-A0A4-FA34F1D9F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85A9-AC47-4908-A1EE-4E7C3FA6B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CD32-5C02-4754-8901-58ED40A02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4D43-C942-4615-B9D4-C78303F5C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27BD-5B09-40D5-92FC-E2E4A0538F9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0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Journalizing Sales on Account Using a Sales Journa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C21_blue_1001" descr=""/>
          <p:cNvPicPr/>
          <p:nvPr/>
        </p:nvPicPr>
        <p:blipFill>
          <a:blip r:embed="rId1"/>
          <a:stretch/>
        </p:blipFill>
        <p:spPr>
          <a:xfrm>
            <a:off x="2608200" y="2166840"/>
            <a:ext cx="4232160" cy="232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EBC0-FFA2-4EE7-A840-41CCAD6744DA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OF MERCHANDISE O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C21_blue_1003" descr=""/>
          <p:cNvPicPr/>
          <p:nvPr/>
        </p:nvPicPr>
        <p:blipFill>
          <a:blip r:embed="rId1"/>
          <a:stretch/>
        </p:blipFill>
        <p:spPr>
          <a:xfrm>
            <a:off x="2603520" y="2133720"/>
            <a:ext cx="4241880" cy="2334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A067-1260-45B9-8A5B-A44693F9E10C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21_blue_1004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202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3A2B-CA8E-4780-A8DD-9A669E831432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INV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C21_blue_1005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434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6EBB-76F7-4AC3-8B6F-104FAB660E97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 O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C21_blue_1006" descr=""/>
          <p:cNvPicPr/>
          <p:nvPr/>
        </p:nvPicPr>
        <p:blipFill>
          <a:blip r:embed="rId1"/>
          <a:srcRect l="0" t="4336" r="0" b="13008"/>
          <a:stretch/>
        </p:blipFill>
        <p:spPr>
          <a:xfrm>
            <a:off x="304920" y="2281320"/>
            <a:ext cx="8534160" cy="1681200"/>
          </a:xfrm>
          <a:prstGeom prst="rect">
            <a:avLst/>
          </a:prstGeom>
          <a:ln w="0">
            <a:noFill/>
          </a:ln>
        </p:spPr>
      </p:pic>
      <p:pic>
        <p:nvPicPr>
          <p:cNvPr id="104" name="C21_blue_1007" descr=""/>
          <p:cNvPicPr/>
          <p:nvPr/>
        </p:nvPicPr>
        <p:blipFill>
          <a:blip r:embed="rId2"/>
          <a:srcRect l="0" t="0" r="0" b="3112"/>
          <a:stretch/>
        </p:blipFill>
        <p:spPr>
          <a:xfrm>
            <a:off x="5867280" y="4245120"/>
            <a:ext cx="2895840" cy="2079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74880" y="3733920"/>
            <a:ext cx="32040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37339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0" y="37339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65800" y="37339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89880" y="3733920"/>
            <a:ext cx="32040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01000" y="37339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495440"/>
            <a:ext cx="853416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3. Sold merchandise on account to Village Crafts, $540.00, plus sales tax, $32.40; total, $572.40. Sales Invoice No. 7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39600" y="4137120"/>
            <a:ext cx="28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42480" y="5927760"/>
            <a:ext cx="42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Write the sales tax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42840" y="4495680"/>
            <a:ext cx="40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rite the customer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43200" y="4854600"/>
            <a:ext cx="47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rite the sales invoice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46080" y="5211720"/>
            <a:ext cx="62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Write the total amount owed by the custo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41400" y="5570640"/>
            <a:ext cx="38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Write the sales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93A7-FD71-42D0-B339-625203C66A12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ING, PROVING, AND RULING A SALES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C21_blue_1008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3760" cy="3954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E92B-5698-4550-A0CF-3D77F2E76FB2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4584-4A45-4D4E-8E92-316C8B2E0AD2}" type="slidenum">
              <a:t>8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48:16Z</dcterms:created>
  <dc:creator>M. C. McLaughlin</dc:creator>
  <dc:description/>
  <dc:language>en-US</dc:language>
  <cp:lastModifiedBy>M. C. McLaughlin</cp:lastModifiedBy>
  <dcterms:modified xsi:type="dcterms:W3CDTF">2005-04-22T22:06:21Z</dcterms:modified>
  <cp:revision>18</cp:revision>
  <dc:subject/>
  <dc:title>Lesson 10-1</dc:title>
</cp:coreProperties>
</file>